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wmf" ContentType="image/x-wmf"/>
  <Override PartName="/ppt/media/image13.wmf" ContentType="image/x-wmf"/>
  <Override PartName="/ppt/media/image8.wmf" ContentType="image/x-wmf"/>
  <Override PartName="/ppt/media/image16.wmf" ContentType="image/x-wmf"/>
  <Override PartName="/ppt/media/image14.wmf" ContentType="image/x-wmf"/>
  <Override PartName="/ppt/media/image15.wmf" ContentType="image/x-wmf"/>
  <Override PartName="/ppt/media/image1.jpeg" ContentType="image/jpeg"/>
  <Override PartName="/ppt/media/image3.wmf" ContentType="image/x-wmf"/>
  <Override PartName="/ppt/media/image5.wmf" ContentType="image/x-wmf"/>
  <Override PartName="/ppt/media/image10.wmf" ContentType="image/x-wmf"/>
  <Override PartName="/ppt/media/image2.png" ContentType="image/png"/>
  <Override PartName="/ppt/media/image6.wmf" ContentType="image/x-wmf"/>
  <Override PartName="/ppt/media/image11.wmf" ContentType="image/x-wmf"/>
  <Override PartName="/ppt/media/image7.wmf" ContentType="image/x-wmf"/>
  <Override PartName="/ppt/media/image4.png" ContentType="image/png"/>
  <Override PartName="/ppt/media/image1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421095-8AE3-47F7-9DC2-5ABA213AD97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01D737-65F4-4F2B-8C90-23810D081A2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4F4424-4F24-4F41-A502-D008E6DCD84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B37F75-C4EA-4EB7-9E66-32806281DFD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D97C771-34CF-4416-8E04-D528EA44C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D224EC2-1AA9-435A-8E6A-B9E18FC6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365D780-A5E4-4214-8162-DAD0F92A8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E27561F-AD70-4E9D-8EB7-5F19B8CC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E7211D0-8CA8-4757-AD68-75E4A1D3C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A7B9AD7-8FE7-4BF2-B154-CCC146FE49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C16F45-507E-4141-92A5-EE9F17A31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AF5766-5015-44DF-BD82-6A766007DF6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1512F4-BCFB-4AC1-BA3B-88BC90850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EFC8C3-7110-4E11-8C05-BB2695F528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06DD76-EDAD-4530-B880-68EC4BCA38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23A187-C70D-41B0-B295-C8DE5EF6FD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375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994360" y="139356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75672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375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994360" y="3860640"/>
            <a:ext cx="249372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9A1FA5-A6DB-41EA-915D-B5F68739C7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DC8E29-F08B-45ED-ABB1-EBD7505FA92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38AAA3-610D-459D-81E9-8CA3541060F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C63FC8-924F-4501-B4A3-C32DF45D414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70040" y="553680"/>
            <a:ext cx="7727760" cy="318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0D9CA7-E75B-4935-A363-405A4FBF99A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3C8904-5474-4553-ADE9-DFCBDC4DA16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25720" y="386064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5716B-F3D3-4E2D-817A-E66CC2C573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25720" y="1393560"/>
            <a:ext cx="377964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756720" y="3860640"/>
            <a:ext cx="7745400" cy="22525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C9AFC-B31B-4F56-87C7-EFC60CBB90D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2" marL="106200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3" marL="1392120" indent="-2286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4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5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6" marL="1722600" indent="-230400">
              <a:spcBef>
                <a:spcPts val="4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3949560" y="6324480"/>
            <a:ext cx="1308240" cy="457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lstStyle>
            <a:lvl1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E457CC-F0E4-4E22-BDA9-25C2980BBCC1}" type="slidenum"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r>
              <a:rPr b="0" lang="en-US" sz="800" spc="-1" strike="noStrike">
                <a:solidFill>
                  <a:srgbClr val="5e574e"/>
                </a:solidFill>
                <a:latin typeface="Times New Roman"/>
              </a:rPr>
              <a:t> / JSM 2007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5e574e"/>
                </a:solidFill>
                <a:latin typeface="Times New Roman"/>
              </a:rPr>
              <a:t>Salt Lake City UT: 29-Jul-07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760320" y="973080"/>
            <a:ext cx="7751880" cy="18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"/>
          <p:cNvSpPr/>
          <p:nvPr/>
        </p:nvSpPr>
        <p:spPr>
          <a:xfrm>
            <a:off x="1676520" y="632448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391520" y="6272280"/>
            <a:ext cx="1149120" cy="49536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762120" y="6248520"/>
            <a:ext cx="457200" cy="5331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673280" y="161568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11360" y="6230520"/>
            <a:ext cx="19303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spcBef>
                <a:spcPts val="8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149640" y="6230520"/>
            <a:ext cx="2844720" cy="51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6603840" y="6245280"/>
            <a:ext cx="1828800" cy="5112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0E7AD-86A1-47A9-97FF-5CC24821F787}" type="slidenum">
              <a:rPr b="0" lang="en-US" sz="1400" spc="-1" strike="noStrike">
                <a:solidFill>
                  <a:srgbClr val="5e574e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762120" y="882720"/>
            <a:ext cx="1941480" cy="72540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1676520" y="6172200"/>
            <a:ext cx="5410080" cy="0"/>
          </a:xfrm>
          <a:prstGeom prst="line">
            <a:avLst/>
          </a:prstGeom>
          <a:ln w="1260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019160" indent="0">
              <a:spcBef>
                <a:spcPts val="3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lvl="1" marL="509760" indent="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528920" indent="-5097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38320" indent="-1019160" algn="ctr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2038320" indent="-101916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netlib.org/dierckx" TargetMode="External"/><Relationship Id="rId2" Type="http://schemas.openxmlformats.org/officeDocument/2006/relationships/hyperlink" Target="http://www.netlib.org/fitpack" TargetMode="External"/><Relationship Id="rId3" Type="http://schemas.openxmlformats.org/officeDocument/2006/relationships/hyperlink" Target="http://www.netlib.org/fitpack" TargetMode="External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673280" y="2169720"/>
            <a:ext cx="6945120" cy="11430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: An R Package For Minimal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673280" y="3831840"/>
            <a:ext cx="6400800" cy="177012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undar Dorai-Raj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Spencer Graves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1019160" indent="0">
              <a:spcBef>
                <a:spcPts val="3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July 29, 2007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238880" y="762120"/>
            <a:ext cx="1086120" cy="96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The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DierckxSpline</a:t>
            </a: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 Packag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ackage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ludes interfaces for computing 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TRAN for modeling bivaria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 and data includ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 Boor and Rice (1968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ierckx (1980) volumetric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oistur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cont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udan and Dierckx (1979)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ee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flexion-extension during walk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dditional data extracted from FITPACK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A4EA90-BB23-4894-84DC-B2A3F50B6ECC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1 – Smoothing With Periodic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Quintic periodic smoothing splin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nalty: 9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riodic: s(a) == s(b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" y="2514600"/>
            <a:ext cx="4038480" cy="28195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period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et.seed(4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1: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0.01 * (r -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e &lt;- rnorm(n, 0, 0.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2 &lt;- var(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w &lt;- rep(1/s2, n +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os(2*pi*x) + 0.25*sin(8*pi*x) + 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 &lt;- c(x, 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y &lt;- c(y, y[1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.01, 0.99, length = 1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percur(x, y, w, method = "s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90, k = 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4799160" y="1525680"/>
            <a:ext cx="3913200" cy="36687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C5632F-77C3-4C09-A699-8F6CEC7947D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2 – Differentiation With Free Knot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Obtain analytical spline derivativ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eriv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func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rivatives available from 0 (fitted spline value) to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k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pline order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2057400"/>
            <a:ext cx="3504960" cy="152388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xyplot(r, show.knots = TRU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dr &lt;- sapply(0:3, deriv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expr = r, at = titanium$x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685800" y="3809880"/>
            <a:ext cx="2933640" cy="211320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3733920" y="2133720"/>
            <a:ext cx="5273640" cy="3956040"/>
          </a:xfrm>
          <a:prstGeom prst="rect">
            <a:avLst/>
          </a:prstGeom>
          <a:ln w="0">
            <a:noFill/>
          </a:ln>
        </p:spPr>
      </p:pic>
      <p:sp>
        <p:nvSpPr>
          <p:cNvPr id="141" name=""/>
          <p:cNvSpPr/>
          <p:nvPr/>
        </p:nvSpPr>
        <p:spPr>
          <a:xfrm>
            <a:off x="4267080" y="2743200"/>
            <a:ext cx="914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ub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6629400" y="274320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dratic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267080" y="4800600"/>
            <a:ext cx="1067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inear splin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705720" y="4267080"/>
            <a:ext cx="10666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step fun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1C09BB-030A-49AC-BD70-9C7E44FEABE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3 – Splines With Convexity Constrain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Volumetric moisture content data (Dierckx 1980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ce convex constraints for all data poin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4495680" y="2209680"/>
            <a:ext cx="4253040" cy="37227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57200" y="2362320"/>
            <a:ext cx="3733920" cy="25905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convexity contstra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moistur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f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oncon(x, y, w, v, s = 0.2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2 &lt;- update(f1, s = 0.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3 &lt;- update(f1, s = 0.000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g1 &lt;- with(moisture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urfit(x, y, w, method = "ls"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 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knots = knots(f1)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2 &lt;- update(g1, knots = f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g3 &lt;- update(g1, knots = f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6D034B-93AB-48A1-B1AE-BFA7D070E76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Example #4 – Profile Likelihood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rofiling the likelihood provides confidence intervals on knot placement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43000" y="1828800"/>
            <a:ext cx="3429000" cy="1219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pro &lt;- confint(profile(r)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xyplot(pr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1295280" y="3124080"/>
            <a:ext cx="3227400" cy="1517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457200" y="4419720"/>
            <a:ext cx="838080" cy="228600"/>
          </a:xfrm>
          <a:prstGeom prst="rightArrow">
            <a:avLst>
              <a:gd name="adj1" fmla="val 50000"/>
              <a:gd name="adj2" fmla="val 91654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57200" y="4731480"/>
            <a:ext cx="1752480" cy="824040"/>
          </a:xfrm>
          <a:prstGeom prst="rect">
            <a:avLst/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ower bound for knot 5 is not achievab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876920" y="1622520"/>
            <a:ext cx="3614760" cy="4626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22EC31-F8E1-437B-9B5C-109377CECE5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oftware Status And Extension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vailable for download from CRAN after JSM 2007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act the author for bug reports and coding hel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Create interfaces for remaining 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nhanced plotting for 3d splines with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lattic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E3A9EF-55A7-4694-978D-2162C58E561C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Agenda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plines in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TPACK Rout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ivariate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moothing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Least squar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Dierckx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package for R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Exampl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oftware Status and Extens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5C5F9-F1F2-4D44-B777-1848D633B52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plines in R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any algorithms have been improved since 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etter free knot selection algorith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pplications for functional data analysi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Purpose of the package is to make available Dierckx FITPACK function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n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ree knot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ivariate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lacks a comprehensive spline packag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, smooth.spline functions in ‘stats’ packag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ral packag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plines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package for B-sp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d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Functional Data Analy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r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– Spline Smoothing Regres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1062000" indent="-22860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pline – smoothing spline pack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o splines package supporting free knots or constrained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7694EC-B5DB-4F53-B197-7B1DA89C798E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Dierckx FITPACK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he FITPACK library is available in Fortran from NETLIB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ww.netlib.org/dierckx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Includ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de to accompany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xamples and dat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urrently R package interfaces with approximately half of the provided function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253fb6"/>
                </a:solidFill>
                <a:latin typeface="Arial"/>
              </a:rPr>
              <a:t>Not to be confused with commercial FITPACK library 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2"/>
              </a:rPr>
              <a:t>http://</a:t>
            </a:r>
            <a:r>
              <a:rPr b="1" lang="en-US" sz="1200" spc="-1" strike="noStrike" u="sng">
                <a:solidFill>
                  <a:srgbClr val="996633"/>
                </a:solidFill>
                <a:uFillTx/>
                <a:latin typeface="Arial"/>
                <a:hlinkClick r:id="rId3"/>
              </a:rPr>
              <a:t>www.netlib.org/fitpack</a:t>
            </a: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09680" y="3240720"/>
            <a:ext cx="4743720" cy="6433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erckx, P. (1993).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urve and Surface Fitting with Splines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Oxford Science Publications, New York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F2A4C5-1DB9-4FA4-8ED6-2D2496B7D545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moothing Spline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3160" y="1142640"/>
            <a:ext cx="510516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6000"/>
          </a:bodyPr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ive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ata: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1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strain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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igh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w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Goal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splin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on [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]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gree: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 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Knots: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-3290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Unconstrained minimization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29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056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some user-specified smoothing 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0560" indent="-27252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ncreas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ncrease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295280" y="3863880"/>
                <a:ext cx="3449880" cy="1317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Minimize   {</m:t>
                        </m:r>
                        <m:acc>
                          <m:accPr>
                            <m:chr m:val="~"/>
                          </m:accPr>
                          <m:e>
                            <m:r>
                              <m:t xml:space="preserve">η</m:t>
                            </m:r>
                          </m:e>
                        </m:acc>
                        <m:r>
                          <m:t xml:space="preserve">: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i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g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+</m:t>
                                        </m:r>
                                      </m:e>
                                    </m:d>
                                    <m:r>
                                      <m:t xml:space="preserve">−</m:t>
                                    </m:r>
                                    <m:s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p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r>
                                              <m:t xml:space="preserve">k</m:t>
                                            </m:r>
                                          </m:e>
                                        </m:d>
                                      </m:sup>
                                    </m:sSup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λ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</m:eqArr>
                    <m:r>
                      <m:rPr>
                        <m:lit/>
                        <m:nor/>
                      </m:rPr>
                      <m:t xml:space="preserve">Subject to  </m:t>
                    </m:r>
                    <m:r>
                      <m:t xml:space="preserve">δ</m:t>
                    </m:r>
                    <m:r>
                      <m:t xml:space="preserve">:</m:t>
                    </m:r>
                    <m:r>
                      <m:t xml:space="preserve">=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m</m:t>
                        </m:r>
                      </m:sup>
                      <m:e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sSub>
                                  <m:e>
                                    <m:r>
                                      <m:t xml:space="preserve">w</m:t>
                                    </m:r>
                                  </m:e>
                                  <m:sub>
                                    <m:r>
                                      <m:t xml:space="preserve">r</m:t>
                                    </m:r>
                                  </m:sub>
                                </m:sSub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r>
                                      <m:t xml:space="preserve">s</m:t>
                                    </m:r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x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</m:e>
                                    </m:d>
                                  </m:e>
                                </m:d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&lt;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5410080" y="1219320"/>
            <a:ext cx="2895840" cy="12189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s &lt;- c(0, 10, 100, 100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s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s = s[i], method = "ss"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843520" y="570564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5334120" y="2357280"/>
            <a:ext cx="3581280" cy="3357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7F7569-AB93-49A6-BFF9-89A11A6FFDF9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Comparison To </a:t>
            </a:r>
            <a:r>
              <a:rPr b="1" lang="en-US" sz="2200" spc="-1" strike="noStrike">
                <a:solidFill>
                  <a:srgbClr val="ab0e4b"/>
                </a:solidFill>
                <a:latin typeface="Courier New"/>
              </a:rPr>
              <a:t>smooth.spline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R has </a:t>
            </a:r>
            <a:r>
              <a:rPr b="1" lang="en-US" sz="1600" spc="-1" strike="noStrike">
                <a:solidFill>
                  <a:srgbClr val="253fb6"/>
                </a:solidFill>
                <a:latin typeface="Courier New"/>
              </a:rPr>
              <a:t>smooth.spline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which is a competing function for smoothing spline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95280" y="1981080"/>
            <a:ext cx="5715000" cy="9907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example from ?smooth.spli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## This example has duplicate points, so avoid cv = TR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cars.spl.0 &lt;- smooth.spline(cars$speed, cars$dist, df=2.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Courier New"/>
              </a:rPr>
              <a:t>cars.spl.1 &lt;- smooth.spline(cars$speed, cars$dist, df = 1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cars.spl.2 &lt;- curfit(cars$speed, cars$dist, s = 5e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486400" y="3274200"/>
            <a:ext cx="2666880" cy="187992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mooth.spline</a:t>
            </a: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uses cross validation or equivalent degrees of freedom to determine the amount of smooth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urfit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constrains the model devianc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066680" y="2971800"/>
            <a:ext cx="3594240" cy="360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5918E5-4FEA-4A62-8DD9-EF423346A07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Fixed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90720" y="1294920"/>
            <a:ext cx="389088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Fixed knots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…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Minimize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	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wher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N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,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 baseline="-25000">
                <a:solidFill>
                  <a:srgbClr val="253fb6"/>
                </a:solidFill>
                <a:latin typeface="Arial"/>
              </a:rPr>
              <a:t>+1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B-splines of degree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nd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c</a:t>
            </a:r>
            <a:r>
              <a:rPr b="1" i="1" lang="en-US" sz="1600" spc="-1" strike="noStrike" baseline="-25000">
                <a:solidFill>
                  <a:srgbClr val="253fb6"/>
                </a:solidFill>
                <a:latin typeface="Arial"/>
              </a:rPr>
              <a:t>i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 are the B-spline coefficients of 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s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(</a:t>
            </a:r>
            <a:r>
              <a:rPr b="1" i="1" lang="en-US" sz="1600" spc="-1" strike="noStrike">
                <a:solidFill>
                  <a:srgbClr val="253fb6"/>
                </a:solidFill>
                <a:latin typeface="Arial"/>
              </a:rPr>
              <a:t>x</a:t>
            </a: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Knots are user-determined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here is no known R equival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R functio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pline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places a knot at each observa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9" name=""/>
              <p:cNvSpPr txBox="1"/>
              <p:nvPr/>
            </p:nvSpPr>
            <p:spPr>
              <a:xfrm>
                <a:off x="1452600" y="2438280"/>
                <a:ext cx="2994120" cy="138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δ</m:t>
                        </m:r>
                        <m:r>
                          <m:t xml:space="preserve">=</m:t>
                        </m:r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d>
                                      <m:dPr>
                                        <m:begChr m:val="("/>
                                        <m:endChr m:val=")"/>
                                      </m:dPr>
                                      <m:e>
                                        <m:sSub>
                                          <m:e>
                                            <m:r>
                                              <m:t xml:space="preserve">y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s</m:t>
                                        </m:r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d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</m:e>
                      <m:e>
                        <m:nary>
                          <m:naryPr>
                            <m:chr m:val="∑"/>
                          </m:naryPr>
                          <m:sub>
                            <m:r>
                              <m:t xml:space="preserve">r</m:t>
                            </m:r>
                            <m:r>
                              <m:t xml:space="preserve">=</m:t>
                            </m:r>
                            <m:r>
                              <m:t xml:space="preserve">1</m:t>
                            </m:r>
                          </m:sub>
                          <m:sup>
                            <m:r>
                              <m:t xml:space="preserve">m</m:t>
                            </m:r>
                          </m:sup>
                          <m:e>
                            <m:sSup>
                              <m:e>
                                <m:d>
                                  <m:dPr>
                                    <m:begChr m:val="("/>
                                    <m:endChr m:val=")"/>
                                  </m:dPr>
                                  <m:e>
                                    <m:sSub>
                                      <m:e>
                                        <m:r>
                                          <m:t xml:space="preserve">w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sSub>
                                      <m:e>
                                        <m:r>
                                          <m:t xml:space="preserve">y</m:t>
                                        </m:r>
                                      </m:e>
                                      <m:sub>
                                        <m:r>
                                          <m:t xml:space="preserve">r</m:t>
                                        </m:r>
                                      </m:sub>
                                    </m:sSub>
                                    <m:r>
                                      <m:t xml:space="preserve">−</m:t>
                                    </m:r>
                                    <m:nary>
                                      <m:naryPr>
                                        <m:chr m:val="∑"/>
                                      </m:naryPr>
                                      <m:sub>
                                        <m:r>
                                          <m:t xml:space="preserve">i</m:t>
                                        </m:r>
                                        <m:r>
                                          <m:t xml:space="preserve">=</m:t>
                                        </m:r>
                                        <m:r>
                                          <m:t xml:space="preserve">−</m:t>
                                        </m:r>
                                        <m:r>
                                          <m:t xml:space="preserve">k</m:t>
                                        </m:r>
                                      </m:sub>
                                      <m:sup>
                                        <m:r>
                                          <m:t xml:space="preserve">g</m:t>
                                        </m:r>
                                      </m:sup>
                                      <m:e>
                                        <m:sSub>
                                          <m:e>
                                            <m:r>
                                              <m:t xml:space="preserve">c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w</m:t>
                                            </m:r>
                                          </m:e>
                                          <m:sub>
                                            <m:r>
                                              <m:t xml:space="preserve">r</m:t>
                                            </m:r>
                                          </m:sub>
                                        </m:sSub>
                                        <m:sSub>
                                          <m:e>
                                            <m:r>
                                              <m:t xml:space="preserve">N</m:t>
                                            </m:r>
                                          </m:e>
                                          <m:sub>
                                            <m:r>
                                              <m:t xml:space="preserve">i</m:t>
                                            </m:r>
                                            <m:r>
                                              <m:t xml:space="preserve">,</m:t>
                                            </m:r>
                                            <m:r>
                                              <m:t xml:space="preserve">k</m:t>
                                            </m:r>
                                            <m:r>
                                              <m:t xml:space="preserve">+</m:t>
                                            </m:r>
                                            <m:r>
                                              <m:t xml:space="preserve">1</m:t>
                                            </m:r>
                                          </m:sub>
                                        </m:sSub>
                                        <m:d>
                                          <m:dPr>
                                            <m:begChr m:val="("/>
                                            <m:endChr m:val=")"/>
                                          </m:dPr>
                                          <m:e>
                                            <m:sSub>
                                              <m:e>
                                                <m:r>
                                                  <m:t xml:space="preserve">x</m:t>
                                                </m:r>
                                              </m:e>
                                              <m:sub>
                                                <m:r>
                                                  <m:t xml:space="preserve">r</m:t>
                                                </m:r>
                                              </m:sub>
                                            </m:sSub>
                                          </m:e>
                                        </m:d>
                                      </m:e>
                                    </m:nary>
                                  </m:e>
                                </m:d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e>
                        </m:nary>
                        <m:r>
                          <m:t xml:space="preserve">,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562720" y="2962440"/>
            <a:ext cx="3098520" cy="29048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5410080" y="1219320"/>
            <a:ext cx="3048120" cy="167616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n &lt;- c(5, 10, 15, 2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ls &lt;- list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for(i in seq(n)) {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kn &lt;- seq(0, 24, len = n[i]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ls[[i]] &lt;- curfit(x, y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method = "ls", knots = k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843520" y="5867280"/>
            <a:ext cx="2667240" cy="22860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Vertical lines are knot place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385F8F-C2AD-42EB-827B-9585E4CCC10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565600" y="2284560"/>
            <a:ext cx="2138400" cy="124452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Least Squares Splines with Variable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/>
          </a:bodyPr>
          <a:p>
            <a:pPr marL="343080" indent="-34308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Titanium data (de Boors and Rice, 1968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ierckx (1993) for optimizing number of knot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30080" indent="-28404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e us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optim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to minimize the residual sums of squa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562720" y="3162240"/>
            <a:ext cx="2133360" cy="190440"/>
          </a:xfrm>
          <a:prstGeom prst="roundRect">
            <a:avLst>
              <a:gd name="adj" fmla="val 16667"/>
            </a:avLst>
          </a:prstGeom>
          <a:noFill/>
          <a:ln w="3816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5181480" y="3733920"/>
            <a:ext cx="2133720" cy="60948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ptimal solution uses 5 interior knot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2"/>
          <a:stretch/>
        </p:blipFill>
        <p:spPr>
          <a:xfrm>
            <a:off x="457200" y="2209680"/>
            <a:ext cx="4473720" cy="44960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3"/>
          <a:stretch/>
        </p:blipFill>
        <p:spPr>
          <a:xfrm>
            <a:off x="7467480" y="4186080"/>
            <a:ext cx="1089000" cy="1517760"/>
          </a:xfrm>
          <a:prstGeom prst="rect">
            <a:avLst/>
          </a:prstGeom>
          <a:ln w="0">
            <a:noFill/>
          </a:ln>
        </p:spPr>
      </p:pic>
      <p:cxnSp>
        <p:nvCxnSpPr>
          <p:cNvPr id="120" name=""/>
          <p:cNvCxnSpPr>
            <a:stCxn id="116" idx="3"/>
            <a:endCxn id="119" idx="0"/>
          </p:cNvCxnSpPr>
          <p:nvPr/>
        </p:nvCxnSpPr>
        <p:spPr>
          <a:xfrm>
            <a:off x="7714800" y="3257280"/>
            <a:ext cx="297720" cy="929160"/>
          </a:xfrm>
          <a:prstGeom prst="bentConnector2">
            <a:avLst/>
          </a:prstGeom>
          <a:ln cap="rnd" w="38160">
            <a:solidFill>
              <a:srgbClr val="333399"/>
            </a:solidFill>
            <a:custDash>
              <a:ds d="100000" sp="1000"/>
            </a:custDash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4724280" y="3048120"/>
            <a:ext cx="838440" cy="228600"/>
          </a:xfrm>
          <a:prstGeom prst="rightArrow">
            <a:avLst>
              <a:gd name="adj1" fmla="val 50000"/>
              <a:gd name="adj2" fmla="val 91693"/>
            </a:avLst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648320" y="5105520"/>
            <a:ext cx="2361960" cy="990360"/>
          </a:xfrm>
          <a:prstGeom prst="roundRect">
            <a:avLst>
              <a:gd name="adj" fmla="val 16667"/>
            </a:avLst>
          </a:prstGeom>
          <a:noFill/>
          <a:ln w="12600">
            <a:solidFill>
              <a:srgbClr val="3333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lots include both fixed equally-spaced knots (dashed) and free knots (soli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638680" y="1143000"/>
            <a:ext cx="3353040" cy="762120"/>
          </a:xfrm>
          <a:prstGeom prst="roundRect">
            <a:avLst>
              <a:gd name="adj" fmla="val 16667"/>
            </a:avLst>
          </a:prstGeom>
          <a:noFill/>
          <a:ln cap="rnd" w="1260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data(titanium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r &lt;- curfit.free.knot(titanium$x2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   </a:t>
            </a:r>
            <a:r>
              <a:rPr b="1" lang="en-US" sz="1200" spc="-1" strike="noStrike">
                <a:solidFill>
                  <a:srgbClr val="3333ff"/>
                </a:solidFill>
                <a:latin typeface="Courier New"/>
              </a:rPr>
              <a:t>titanium$y, g = 10, eps = 5e-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F075F5-6782-4739-A50A-365FD5003A0D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770040" y="553680"/>
            <a:ext cx="7727760" cy="687240"/>
          </a:xfrm>
          <a:prstGeom prst="rect">
            <a:avLst/>
          </a:prstGeom>
          <a:noFill/>
          <a:ln w="0">
            <a:noFill/>
          </a:ln>
        </p:spPr>
        <p:txBody>
          <a:bodyPr lIns="0" rIns="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ab0e4b"/>
                </a:solidFill>
                <a:latin typeface="Arial"/>
              </a:rPr>
              <a:t>Selecting An Appropriate Number Of Knots</a:t>
            </a:r>
            <a:endParaRPr b="1" lang="en-US" sz="2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756720" y="1393560"/>
            <a:ext cx="7745400" cy="47228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Algorithm described by Dierckx (1993)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upply starting value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 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+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/2 for the first knot, where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in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max(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Determine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by minimizing a penalized RSS with user-define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eng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r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= 0, 1, 2, …,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, determine the region between knots with the largest RS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he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Add a new knot at the midpoint of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i="1" lang="en-US" sz="1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 baseline="-25000">
                <a:solidFill>
                  <a:srgbClr val="000000"/>
                </a:solidFill>
                <a:latin typeface="Arial"/>
              </a:rPr>
              <a:t>+1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where RSS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j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maximiz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400"/>
              </a:spcBef>
              <a:buClr>
                <a:srgbClr val="ab0e4b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253fb6"/>
                </a:solidFill>
                <a:latin typeface="Arial"/>
              </a:rPr>
              <a:t>Stopping criteria</a:t>
            </a: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marL="3326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253fb6"/>
              </a:solidFill>
              <a:latin typeface="Arial"/>
            </a:endParaRPr>
          </a:p>
          <a:p>
            <a:pPr lvl="1" marL="708120" indent="-275400">
              <a:spcBef>
                <a:spcPts val="349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Number of optimal knots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is determined by the first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T</a:t>
            </a:r>
            <a:r>
              <a:rPr b="0" i="1" lang="en-US" sz="1400" spc="-1" strike="noStrike" baseline="-25000">
                <a:solidFill>
                  <a:srgbClr val="000000"/>
                </a:solidFill>
                <a:latin typeface="Arial"/>
              </a:rPr>
              <a:t>g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&lt;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3173400" y="3468600"/>
                <a:ext cx="3227400" cy="722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m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nary>
                      <m:naryPr>
                        <m:chr m:val="∑"/>
                      </m:naryPr>
                      <m:sub>
                        <m:r>
                          <m:t xml:space="preserve">i</m:t>
                        </m:r>
                        <m:r>
                          <m:t xml:space="preserve">=</m:t>
                        </m:r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  <m:sup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p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y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t xml:space="preserve">g</m:t>
                            </m:r>
                          </m:sub>
                        </m:sSub>
                        <m:r>
                          <m:t xml:space="preserve">(</m:t>
                        </m:r>
                        <m:sSub>
                          <m:e>
                            <m:r>
                              <m:t xml:space="preserve">x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)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nary>
                    <m:r>
                      <m:t xml:space="preserve">,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3200400" y="4191120"/>
                <a:ext cx="3132000" cy="34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≤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2</m:t>
                        </m:r>
                      </m:sub>
                    </m:sSub>
                    <m:r>
                      <m:t xml:space="preserve">⋯</m:t>
                    </m:r>
                    <m:r>
                      <m:t xml:space="preserve">&lt;</m:t>
                    </m:r>
                    <m:sSub>
                      <m:e>
                        <m:r>
                          <m:t xml:space="preserve">x</m:t>
                        </m:r>
                      </m:e>
                      <m:sub>
                        <m:sSub>
                          <m:e>
                            <m:r>
                              <m:t xml:space="preserve">q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sub>
                    </m:sSub>
                    <m:sSub>
                      <m:e>
                        <m:r>
                          <m:t xml:space="preserve">λ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3387600" y="4932360"/>
                <a:ext cx="1946520" cy="858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T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ad>
                          <m:radPr>
                            <m:degHide m:val="1"/>
                          </m:radPr>
                          <m:deg/>
                          <m:e>
                            <m:r>
                              <m:t xml:space="preserve">m</m:t>
                            </m:r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e>
                        </m:rad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</m:sSub>
                            <m:sSub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</m:sub>
                            </m:sSub>
                          </m:e>
                        </m:nary>
                      </m:num>
                      <m:den>
                        <m:nary>
                          <m:naryPr>
                            <m:chr m:val="∑"/>
                            <m:subHide m:val="1"/>
                            <m:supHide m:val="1"/>
                          </m:naryPr>
                          <m:sub/>
                          <m:sup/>
                          <m:e>
                            <m:sSubSup>
                              <m:e>
                                <m:r>
                                  <m:t xml:space="preserve">r</m:t>
                                </m:r>
                              </m:e>
                              <m:sub>
                                <m:r>
                                  <m:t xml:space="preserve">i</m:t>
                                </m:r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e>
                        </m:nary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9" name=""/>
              <p:cNvSpPr txBox="1"/>
              <p:nvPr/>
            </p:nvSpPr>
            <p:spPr>
              <a:xfrm>
                <a:off x="2743200" y="2511360"/>
                <a:ext cx="4424400" cy="612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ξ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RSS</m:t>
                    </m:r>
                    <m:r>
                      <m:t xml:space="preserve">(</m:t>
                    </m:r>
                    <m:r>
                      <m:t xml:space="preserve">λ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ε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b</m:t>
                        </m:r>
                        <m:r>
                          <m:t xml:space="preserve">−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  <m:r>
                          <m:rPr>
                            <m:lit/>
                            <m:nor/>
                          </m:rPr>
                          <m:t xml:space="preserve">RSS</m:t>
                        </m:r>
                        <m:r>
                          <m:t xml:space="preserve">(</m:t>
                        </m:r>
                        <m:sSup>
                          <m:e>
                            <m:r>
                              <m:t xml:space="preserve">λ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  <m:r>
                          <m:t xml:space="preserve">)</m:t>
                        </m:r>
                      </m:num>
                      <m:den>
                        <m:r>
                          <m:t xml:space="preserve">(</m:t>
                        </m:r>
                        <m:r>
                          <m:t xml:space="preserve">g</m:t>
                        </m:r>
                        <m:r>
                          <m:t xml:space="preserve">+</m:t>
                        </m:r>
                        <m:r>
                          <m:t xml:space="preserve">1</m:t>
                        </m:r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nary>
                      <m:naryPr>
                        <m:chr m:val="∑"/>
                        <m:subHide m:val="1"/>
                        <m:supHide m:val="1"/>
                      </m:naryPr>
                      <m:sub/>
                      <m:sup/>
                      <m:e>
                        <m:r>
                          <m:t xml:space="preserve">(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λ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sup>
                        </m:sSup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62F978-7B51-4437-811F-892C927208E9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2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3T16:19:43Z</dcterms:created>
  <dc:creator>Sundar Dorai-Raj</dc:creator>
  <dc:description/>
  <dc:language>en-US</dc:language>
  <cp:lastModifiedBy>spencerg</cp:lastModifiedBy>
  <dcterms:modified xsi:type="dcterms:W3CDTF">2008-01-19T15:53:45Z</dcterms:modified>
  <cp:revision>169</cp:revision>
  <dc:subject/>
  <dc:title>minSpline: An R Package For Minimal Knot Splines</dc:title>
</cp:coreProperties>
</file>